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101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EA4-BC57-42C2-880C-C0014F31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677-8E8E-40F4-8570-F71B101C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042-2216-4B65-9F7B-9F37347C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D24-B700-45B5-BCCF-038D3827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5D4-749D-4499-89B6-F806FB84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CDB-4AA4-45BC-A241-68537FE1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EA5-B9D3-483D-8673-33803ED1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98C-2AC6-4BC0-8951-CFCC2298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F91-9FB2-4069-9D8B-33168229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624-807F-4AD0-B8B1-B031B8D6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9C7-6BCE-4E31-B469-1B08E1FE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CDE-9AC0-4777-AE3F-CF79DA5F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4D862B2E-494B-4A0C-969F-3A1F0428AF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/ 1 / 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4764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12408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0192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01360" y="63216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44600" y="8164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Aparat propriu = 158 (din car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44600" y="11926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DPC (centre plasament copii) = 6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944600" y="159912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AMP = 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20920" y="1852560"/>
            <a:ext cx="1447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861048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1016784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8839080"/>
            <a:ext cx="0" cy="16765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051560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66320" y="8839080"/>
            <a:ext cx="381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853452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848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8458200"/>
            <a:ext cx="0" cy="3808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44600" y="140076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DAS (centre ingrijire adulti) = 45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44600" y="1019880"/>
            <a:ext cx="1600200" cy="17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 conducere =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325480" y="628560"/>
            <a:ext cx="838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umar postu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1-17T10:50:46Z</cp:lastPrinted>
  <dcterms:modified xsi:type="dcterms:W3CDTF">2006-01-25T11:48:38Z</dcterms:modified>
  <cp:revision>94</cp:revision>
  <dc:subject/>
  <dc:title>No Slide Title</dc:title>
</cp:coreProperties>
</file>